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gif" ContentType="image/gi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EA6D-04B2-4600-A0BD-19D327159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FC2D-B9D3-462D-B5AE-A73215D71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A78A-4E96-452A-84E0-C8CCFEA39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2FFF-B78F-4586-AF93-3A20D46FF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310C-AABC-4E2D-8DBD-7EFEA948D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5C22-9E40-42E1-9F9A-06895C57D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66EB-36E1-4C2C-9D12-BC73E8B62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9752-DEA9-48F0-827F-3F3B588C3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6484-E91C-4EF8-83B6-94E65AE6A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144B-E505-453C-9C18-EC56B021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2A77-3565-4CB5-BB0F-0A2A87F5A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5AEF-4C7F-4E43-BAB4-64676E2F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038D9-6A1F-461A-BC2F-C78D5937F3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" Target="slide4.xml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" Target="slide4.xml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" Target="slide4.xml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" Target="slide4.xml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" Target="slide4.xml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" Target="slide4.xml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" Target="slide4.xml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hyperlink" Target="file:///tmp/home/.config/libreoffice/4/user/gallery/camera.wav" TargetMode="External"/><Relationship Id="rId5" Type="http://schemas.openxmlformats.org/officeDocument/2006/relationships/hyperlink" Target="file:///tmp/home/.config/libreoffice/4/user/gallery/whoosh.wav" TargetMode="External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" Target="slide12.xml"/><Relationship Id="rId4" Type="http://schemas.openxmlformats.org/officeDocument/2006/relationships/slide" Target="slide4.xml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" Target="slide12.xml"/><Relationship Id="rId4" Type="http://schemas.openxmlformats.org/officeDocument/2006/relationships/slide" Target="slide4.xml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slide" Target="slide4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" Target="slide12.xml"/><Relationship Id="rId4" Type="http://schemas.openxmlformats.org/officeDocument/2006/relationships/slide" Target="slide4.xml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" Target="slide4.xml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" Target="slide4.xml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" Target="slide4.xml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hyperlink" Target="file:///tmp/home/.config/libreoffice/4/user/gallery/camera.wav" TargetMode="External"/><Relationship Id="rId4" Type="http://schemas.openxmlformats.org/officeDocument/2006/relationships/hyperlink" Target="file:///tmp/home/.config/libreoffice/4/user/gallery/whoosh.wav" TargetMode="External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2" descr=""/>
          <p:cNvPicPr/>
          <p:nvPr/>
        </p:nvPicPr>
        <p:blipFill>
          <a:blip r:embed="rId2"/>
          <a:stretch/>
        </p:blipFill>
        <p:spPr>
          <a:xfrm>
            <a:off x="1901880" y="378000"/>
            <a:ext cx="6108480" cy="2176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3581280" y="5714640"/>
            <a:ext cx="1828800" cy="609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林海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 rot="5400000">
            <a:off x="-609480" y="2742840"/>
            <a:ext cx="3962520" cy="10670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96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16200000"/>
                </a:gradFill>
                <a:latin typeface="宋体"/>
              </a:rPr>
              <a:t>书山有路勤为径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16200000"/>
              </a:gradFill>
              <a:latin typeface="宋体"/>
              <a:ea typeface="宋体"/>
            </a:endParaRPr>
          </a:p>
        </p:txBody>
      </p:sp>
      <p:sp>
        <p:nvSpPr>
          <p:cNvPr id="44" name="WordArt 5"/>
          <p:cNvSpPr txBox="1"/>
          <p:nvPr/>
        </p:nvSpPr>
        <p:spPr>
          <a:xfrm rot="5400000">
            <a:off x="5866920" y="2743200"/>
            <a:ext cx="3886200" cy="1143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98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16200000"/>
                </a:gradFill>
                <a:latin typeface="宋体"/>
              </a:rPr>
              <a:t>学海无涯苦作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16200000"/>
              </a:gradFill>
              <a:latin typeface="宋体"/>
              <a:ea typeface="宋体"/>
            </a:endParaRPr>
          </a:p>
        </p:txBody>
      </p:sp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3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页脚占位符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窃读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框（86）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3"/>
          <p:cNvSpPr/>
          <p:nvPr/>
        </p:nvSpPr>
        <p:spPr>
          <a:xfrm>
            <a:off x="2340000" y="333360"/>
            <a:ext cx="727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cc00"/>
                </a:solidFill>
                <a:latin typeface="Arial"/>
                <a:ea typeface="华文新魏"/>
              </a:rPr>
              <a:t>一个渴望读书而不怕艰辛、勤于读书的穷学生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762120" y="1676520"/>
            <a:ext cx="77724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放学后急匆匆地从学校赶到这里，目的地可不是饭店，而是紧邻它的一家书店。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99cc00"/>
                </a:solidFill>
                <a:latin typeface="黑体"/>
                <a:ea typeface="黑体"/>
              </a:rPr>
              <a:t>精神食粮</a:t>
            </a:r>
            <a:r>
              <a:rPr b="1" lang="zh-CN" sz="3200" spc="-1" strike="noStrike">
                <a:solidFill>
                  <a:srgbClr val="99cc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99cc00"/>
                </a:solidFill>
                <a:latin typeface="黑体"/>
                <a:ea typeface="黑体"/>
              </a:rPr>
              <a:t>更吸引</a:t>
            </a:r>
            <a:r>
              <a:rPr b="1" lang="zh-CN" sz="3200" spc="-1" strike="noStrike">
                <a:solidFill>
                  <a:srgbClr val="99cc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99cc00"/>
                </a:solidFill>
                <a:latin typeface="黑体"/>
                <a:ea typeface="黑体"/>
              </a:rPr>
              <a:t>我</a:t>
            </a:r>
            <a:r>
              <a:rPr b="1" lang="zh-CN" sz="3200" spc="-1" strike="noStrike">
                <a:solidFill>
                  <a:srgbClr val="99cc00"/>
                </a:solidFill>
                <a:latin typeface="Arial"/>
                <a:ea typeface="黑体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黑体"/>
                <a:ea typeface="黑体"/>
              </a:rPr>
              <a:t>系列动词</a:t>
            </a:r>
            <a:r>
              <a:rPr b="1" lang="zh-CN" sz="3200" spc="-1" strike="noStrike">
                <a:solidFill>
                  <a:srgbClr val="99cc00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99cc00"/>
                </a:solidFill>
                <a:latin typeface="黑体"/>
                <a:ea typeface="黑体"/>
              </a:rPr>
              <a:t>轻手轻脚（</a:t>
            </a:r>
            <a:r>
              <a:rPr b="1" lang="zh-CN" sz="3200" spc="-1" strike="noStrike">
                <a:solidFill>
                  <a:srgbClr val="99cc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99cc00"/>
                </a:solidFill>
                <a:latin typeface="黑体"/>
                <a:ea typeface="黑体"/>
              </a:rPr>
              <a:t>窃读</a:t>
            </a:r>
            <a:r>
              <a:rPr b="1" lang="zh-CN" sz="3200" spc="-1" strike="noStrike">
                <a:solidFill>
                  <a:srgbClr val="99cc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99cc00"/>
                </a:solidFill>
                <a:latin typeface="黑体"/>
                <a:ea typeface="黑体"/>
              </a:rPr>
              <a:t>）；急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WordArt 5"/>
          <p:cNvSpPr txBox="1"/>
          <p:nvPr/>
        </p:nvSpPr>
        <p:spPr>
          <a:xfrm>
            <a:off x="324000" y="404640"/>
            <a:ext cx="1871640" cy="157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新魏"/>
              </a:rPr>
              <a:t>“</a:t>
            </a: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新魏"/>
              </a:rPr>
              <a:t>我”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</p:spTree>
  </p:cSld>
  <p:transition spd="med">
    <p:random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01680" y="1142640"/>
            <a:ext cx="854064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6400" spc="-1" strike="noStrike">
                <a:solidFill>
                  <a:srgbClr val="000000"/>
                </a:solidFill>
                <a:latin typeface="Arial"/>
              </a:rPr>
              <a:t>划出你印象最深刻的写“我”“窃读”的句子或段落。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页脚占位符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窃读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20051010192951263"/>
          <p:cNvPicPr/>
          <p:nvPr/>
        </p:nvPicPr>
        <p:blipFill>
          <a:blip r:embed="rId2"/>
          <a:stretch/>
        </p:blipFill>
        <p:spPr>
          <a:xfrm>
            <a:off x="3657600" y="3429000"/>
            <a:ext cx="52387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380520" y="1904760"/>
            <a:ext cx="854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300" spc="-1" strike="noStrike">
                <a:solidFill>
                  <a:srgbClr val="000000"/>
                </a:solidFill>
                <a:latin typeface="Arial"/>
              </a:rPr>
              <a:t>我跨进书店门，</a:t>
            </a:r>
            <a:r>
              <a:rPr b="1" lang="zh-CN" sz="4300" spc="-1" strike="noStrike">
                <a:solidFill>
                  <a:srgbClr val="333399"/>
                </a:solidFill>
                <a:latin typeface="Arial"/>
              </a:rPr>
              <a:t>暗喜</a:t>
            </a:r>
            <a:r>
              <a:rPr b="1" lang="zh-CN" sz="4300" spc="-1" strike="noStrike">
                <a:solidFill>
                  <a:srgbClr val="000000"/>
                </a:solidFill>
                <a:latin typeface="Arial"/>
              </a:rPr>
              <a:t>没人注意，我</a:t>
            </a:r>
            <a:r>
              <a:rPr b="1" lang="zh-CN" sz="4300" spc="-1" strike="noStrike">
                <a:solidFill>
                  <a:srgbClr val="009999"/>
                </a:solidFill>
                <a:latin typeface="Arial"/>
              </a:rPr>
              <a:t>踮起</a:t>
            </a:r>
            <a:r>
              <a:rPr b="1" lang="zh-CN" sz="4300" spc="-1" strike="noStrike">
                <a:solidFill>
                  <a:srgbClr val="000000"/>
                </a:solidFill>
                <a:latin typeface="Arial"/>
              </a:rPr>
              <a:t>脚尖，使矮小的身体</a:t>
            </a:r>
            <a:r>
              <a:rPr b="1" lang="zh-CN" sz="4300" spc="-1" strike="noStrike">
                <a:solidFill>
                  <a:srgbClr val="009999"/>
                </a:solidFill>
                <a:latin typeface="Arial"/>
              </a:rPr>
              <a:t>挨蹭</a:t>
            </a:r>
            <a:r>
              <a:rPr b="1" lang="zh-CN" sz="4300" spc="-1" strike="noStrike">
                <a:solidFill>
                  <a:srgbClr val="000000"/>
                </a:solidFill>
                <a:latin typeface="Arial"/>
              </a:rPr>
              <a:t>过别的顾客和书柜的缝，从大人腋下</a:t>
            </a:r>
            <a:r>
              <a:rPr b="1" lang="zh-CN" sz="4300" spc="-1" strike="noStrike">
                <a:solidFill>
                  <a:srgbClr val="009999"/>
                </a:solidFill>
                <a:latin typeface="Arial"/>
              </a:rPr>
              <a:t>钻</a:t>
            </a:r>
            <a:r>
              <a:rPr b="1" lang="zh-CN" sz="4300" spc="-1" strike="noStrike">
                <a:solidFill>
                  <a:srgbClr val="000000"/>
                </a:solidFill>
                <a:latin typeface="Arial"/>
              </a:rPr>
              <a:t>过去，哟，把短发弄乱了，没关系，我到底挤到里边来了。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页脚占位符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窃读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Rectangle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7">
            <a:hlinkClick r:id="rId3" action="ppaction://hlinksldjump"/>
          </p:cNvPr>
          <p:cNvSpPr/>
          <p:nvPr/>
        </p:nvSpPr>
        <p:spPr>
          <a:xfrm>
            <a:off x="7848720" y="6510240"/>
            <a:ext cx="304560" cy="347760"/>
          </a:xfrm>
          <a:custGeom>
            <a:avLst/>
            <a:gdLst>
              <a:gd name="textAreaLeft" fmla="*/ 0 w 304560"/>
              <a:gd name="textAreaRight" fmla="*/ 86040 w 304560"/>
              <a:gd name="textAreaTop" fmla="*/ 133920 h 347760"/>
              <a:gd name="textAreaBottom" fmla="*/ 348120 h 34776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20051010192951263"/>
          <p:cNvPicPr/>
          <p:nvPr/>
        </p:nvPicPr>
        <p:blipFill>
          <a:blip r:embed="rId4"/>
          <a:stretch/>
        </p:blipFill>
        <p:spPr>
          <a:xfrm>
            <a:off x="3657600" y="3429000"/>
            <a:ext cx="5238720" cy="38098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300" spc="-1" strike="noStrike">
                <a:solidFill>
                  <a:srgbClr val="000000"/>
                </a:solidFill>
                <a:latin typeface="Arial"/>
              </a:rPr>
              <a:t>在一片花绿封面的排队里，我的眼睛过于</a:t>
            </a:r>
            <a:r>
              <a:rPr b="1" lang="zh-CN" sz="4300" spc="-1" strike="noStrike">
                <a:solidFill>
                  <a:srgbClr val="333399"/>
                </a:solidFill>
                <a:latin typeface="Arial"/>
              </a:rPr>
              <a:t>急忙地</a:t>
            </a:r>
            <a:r>
              <a:rPr b="1" lang="zh-CN" sz="4300" spc="-1" strike="noStrike">
                <a:solidFill>
                  <a:srgbClr val="009999"/>
                </a:solidFill>
                <a:latin typeface="Arial"/>
              </a:rPr>
              <a:t>寻找</a:t>
            </a:r>
            <a:r>
              <a:rPr b="1" lang="zh-CN" sz="4300" spc="-1" strike="noStrike">
                <a:solidFill>
                  <a:srgbClr val="000000"/>
                </a:solidFill>
                <a:latin typeface="Arial"/>
              </a:rPr>
              <a:t>，反而看不到那本书的所在，从头来，再数一遍，啊！它在这里，原来不是在昨天那位置了。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页脚占位符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窃读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Rectangle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4">
            <a:hlinkClick r:id="rId3" action="ppaction://hlinksldjump"/>
          </p:cNvPr>
          <p:cNvSpPr/>
          <p:nvPr/>
        </p:nvSpPr>
        <p:spPr>
          <a:xfrm>
            <a:off x="7848720" y="6510240"/>
            <a:ext cx="304560" cy="347760"/>
          </a:xfrm>
          <a:custGeom>
            <a:avLst/>
            <a:gdLst>
              <a:gd name="textAreaLeft" fmla="*/ 0 w 304560"/>
              <a:gd name="textAreaRight" fmla="*/ 86040 w 304560"/>
              <a:gd name="textAreaTop" fmla="*/ 133920 h 347760"/>
              <a:gd name="textAreaBottom" fmla="*/ 348120 h 34776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20051010192951263"/>
          <p:cNvPicPr/>
          <p:nvPr/>
        </p:nvPicPr>
        <p:blipFill>
          <a:blip r:embed="rId4"/>
          <a:stretch/>
        </p:blipFill>
        <p:spPr>
          <a:xfrm>
            <a:off x="3657600" y="3429000"/>
            <a:ext cx="52387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300" spc="-1" strike="noStrike">
                <a:solidFill>
                  <a:srgbClr val="000000"/>
                </a:solidFill>
                <a:latin typeface="Arial"/>
              </a:rPr>
              <a:t>我</a:t>
            </a:r>
            <a:r>
              <a:rPr b="1" lang="zh-CN" sz="4300" spc="-1" strike="noStrike">
                <a:solidFill>
                  <a:srgbClr val="333399"/>
                </a:solidFill>
                <a:latin typeface="Arial"/>
              </a:rPr>
              <a:t>庆幸</a:t>
            </a:r>
            <a:r>
              <a:rPr b="1" lang="zh-CN" sz="4300" spc="-1" strike="noStrike">
                <a:solidFill>
                  <a:srgbClr val="000000"/>
                </a:solidFill>
                <a:latin typeface="Arial"/>
              </a:rPr>
              <a:t>它居然没有被卖出去，仍四平八稳地躺在书架上，专侯我的光临。我多么高兴，又多么</a:t>
            </a:r>
            <a:r>
              <a:rPr b="1" lang="zh-CN" sz="4300" spc="-1" strike="noStrike">
                <a:solidFill>
                  <a:srgbClr val="333399"/>
                </a:solidFill>
                <a:latin typeface="Arial"/>
              </a:rPr>
              <a:t>渴望</a:t>
            </a:r>
            <a:r>
              <a:rPr b="1" lang="zh-CN" sz="4300" spc="-1" strike="noStrike">
                <a:solidFill>
                  <a:srgbClr val="000000"/>
                </a:solidFill>
                <a:latin typeface="Arial"/>
              </a:rPr>
              <a:t>地伸手去拿。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页脚占位符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窃读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Rectangle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4"/>
          <p:cNvSpPr/>
          <p:nvPr/>
        </p:nvSpPr>
        <p:spPr>
          <a:xfrm>
            <a:off x="8610480" y="6172200"/>
            <a:ext cx="362160" cy="457200"/>
          </a:xfrm>
          <a:custGeom>
            <a:avLst/>
            <a:gdLst>
              <a:gd name="textAreaLeft" fmla="*/ 84240 w 362160"/>
              <a:gd name="textAreaRight" fmla="*/ 277560 w 362160"/>
              <a:gd name="textAreaTop" fmla="*/ 47880 h 457200"/>
              <a:gd name="textAreaBottom" fmla="*/ 289440 h 4572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5">
            <a:hlinkClick r:id="rId3" action="ppaction://hlinksldjump"/>
          </p:cNvPr>
          <p:cNvSpPr/>
          <p:nvPr/>
        </p:nvSpPr>
        <p:spPr>
          <a:xfrm>
            <a:off x="7848720" y="6510240"/>
            <a:ext cx="304560" cy="347760"/>
          </a:xfrm>
          <a:custGeom>
            <a:avLst/>
            <a:gdLst>
              <a:gd name="textAreaLeft" fmla="*/ 0 w 304560"/>
              <a:gd name="textAreaRight" fmla="*/ 86040 w 304560"/>
              <a:gd name="textAreaTop" fmla="*/ 133920 h 347760"/>
              <a:gd name="textAreaBottom" fmla="*/ 348120 h 34776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20051010192951263"/>
          <p:cNvPicPr/>
          <p:nvPr/>
        </p:nvPicPr>
        <p:blipFill>
          <a:blip r:embed="rId4"/>
          <a:stretch/>
        </p:blipFill>
        <p:spPr>
          <a:xfrm>
            <a:off x="3657600" y="3429000"/>
            <a:ext cx="52387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但和我的手同时抵达的，还有一只巨掌，五个手指</a:t>
            </a:r>
            <a:r>
              <a:rPr b="1" lang="zh-CN" sz="4800" spc="-1" strike="noStrike">
                <a:solidFill>
                  <a:srgbClr val="00cc00"/>
                </a:solidFill>
                <a:latin typeface="Arial"/>
              </a:rPr>
              <a:t>大大地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分开来，</a:t>
            </a:r>
            <a:r>
              <a:rPr b="1" lang="zh-CN" sz="4800" spc="-1" strike="noStrike">
                <a:solidFill>
                  <a:srgbClr val="00cc00"/>
                </a:solidFill>
                <a:latin typeface="Arial"/>
              </a:rPr>
              <a:t>压住了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那本书的整个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页脚占位符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窃读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Rectangle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7">
            <a:hlinkClick r:id="rId3" action="ppaction://hlinksldjump"/>
          </p:cNvPr>
          <p:cNvSpPr/>
          <p:nvPr/>
        </p:nvSpPr>
        <p:spPr>
          <a:xfrm>
            <a:off x="7848720" y="6510240"/>
            <a:ext cx="304560" cy="347760"/>
          </a:xfrm>
          <a:custGeom>
            <a:avLst/>
            <a:gdLst>
              <a:gd name="textAreaLeft" fmla="*/ 0 w 304560"/>
              <a:gd name="textAreaRight" fmla="*/ 86040 w 304560"/>
              <a:gd name="textAreaTop" fmla="*/ 133920 h 347760"/>
              <a:gd name="textAreaBottom" fmla="*/ 348120 h 34776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20051010192951263"/>
          <p:cNvPicPr/>
          <p:nvPr/>
        </p:nvPicPr>
        <p:blipFill>
          <a:blip r:embed="rId4"/>
          <a:stretch/>
        </p:blipFill>
        <p:spPr>
          <a:xfrm>
            <a:off x="3581280" y="3352680"/>
            <a:ext cx="5238720" cy="38102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我抬起头，难堪地望着他——那书店老板，他</a:t>
            </a:r>
            <a:r>
              <a:rPr b="1" lang="zh-CN" sz="4800" spc="-1" strike="noStrike">
                <a:solidFill>
                  <a:srgbClr val="00cc00"/>
                </a:solidFill>
                <a:latin typeface="Arial"/>
              </a:rPr>
              <a:t>威风凛凛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地</a:t>
            </a:r>
            <a:r>
              <a:rPr b="1" lang="zh-CN" sz="4800" spc="-1" strike="noStrike">
                <a:solidFill>
                  <a:srgbClr val="00cc00"/>
                </a:solidFill>
                <a:latin typeface="Arial"/>
              </a:rPr>
              <a:t>俯视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着我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页脚占位符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窃读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Rectangle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121" name="AutoShape 5">
            <a:hlinkClick r:id="rId3" action="ppaction://hlinksldjump"/>
          </p:cNvPr>
          <p:cNvSpPr/>
          <p:nvPr/>
        </p:nvSpPr>
        <p:spPr>
          <a:xfrm>
            <a:off x="7848720" y="6510240"/>
            <a:ext cx="304560" cy="347760"/>
          </a:xfrm>
          <a:custGeom>
            <a:avLst/>
            <a:gdLst>
              <a:gd name="textAreaLeft" fmla="*/ 0 w 304560"/>
              <a:gd name="textAreaRight" fmla="*/ 86040 w 304560"/>
              <a:gd name="textAreaTop" fmla="*/ 133920 h 347760"/>
              <a:gd name="textAreaBottom" fmla="*/ 348120 h 34776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20051010192951263"/>
          <p:cNvPicPr/>
          <p:nvPr/>
        </p:nvPicPr>
        <p:blipFill>
          <a:blip r:embed="rId4"/>
          <a:stretch/>
        </p:blipFill>
        <p:spPr>
          <a:xfrm>
            <a:off x="3905280" y="3200400"/>
            <a:ext cx="5238720" cy="38098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在众目睽睽之下，我几乎是狼狈地跨出了店门，脚跟后面</a:t>
            </a:r>
            <a:r>
              <a:rPr b="0" lang="zh-CN" sz="4800" spc="-1" strike="noStrike">
                <a:solidFill>
                  <a:srgbClr val="00cc00"/>
                </a:solidFill>
                <a:latin typeface="Arial"/>
              </a:rPr>
              <a:t>紧跟着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是老板的</a:t>
            </a:r>
            <a:r>
              <a:rPr b="0" lang="zh-CN" sz="4800" spc="-1" strike="noStrike">
                <a:solidFill>
                  <a:srgbClr val="00cc00"/>
                </a:solidFill>
                <a:latin typeface="Arial"/>
              </a:rPr>
              <a:t>冷笑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：“不是一回了！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页脚占位符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窃读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Rectangle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4"/>
          <p:cNvSpPr/>
          <p:nvPr/>
        </p:nvSpPr>
        <p:spPr>
          <a:xfrm>
            <a:off x="8610480" y="6172200"/>
            <a:ext cx="362160" cy="457200"/>
          </a:xfrm>
          <a:custGeom>
            <a:avLst/>
            <a:gdLst>
              <a:gd name="textAreaLeft" fmla="*/ 84240 w 362160"/>
              <a:gd name="textAreaRight" fmla="*/ 277560 w 362160"/>
              <a:gd name="textAreaTop" fmla="*/ 47880 h 457200"/>
              <a:gd name="textAreaBottom" fmla="*/ 289440 h 4572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5">
            <a:hlinkClick r:id="rId3" action="ppaction://hlinksldjump"/>
          </p:cNvPr>
          <p:cNvSpPr/>
          <p:nvPr/>
        </p:nvSpPr>
        <p:spPr>
          <a:xfrm>
            <a:off x="7848720" y="6510240"/>
            <a:ext cx="304560" cy="347760"/>
          </a:xfrm>
          <a:custGeom>
            <a:avLst/>
            <a:gdLst>
              <a:gd name="textAreaLeft" fmla="*/ 0 w 304560"/>
              <a:gd name="textAreaRight" fmla="*/ 86040 w 304560"/>
              <a:gd name="textAreaTop" fmla="*/ 133920 h 347760"/>
              <a:gd name="textAreaBottom" fmla="*/ 348120 h 34776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20051010192951263"/>
          <p:cNvPicPr/>
          <p:nvPr/>
        </p:nvPicPr>
        <p:blipFill>
          <a:blip r:embed="rId4"/>
          <a:stretch/>
        </p:blipFill>
        <p:spPr>
          <a:xfrm>
            <a:off x="3657600" y="3429000"/>
            <a:ext cx="5238720" cy="38098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页脚占位符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窃读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2498400" y="838080"/>
            <a:ext cx="3746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黑体"/>
              </a:rPr>
              <a:t>红色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动词：表现出我很小心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怕被店主发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蓝色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词语：表现出我十分渴望读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685800" y="2895480"/>
            <a:ext cx="605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Arial"/>
                <a:ea typeface="黑体"/>
              </a:rPr>
              <a:t>绿色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词语：店主不让我看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8"/>
          <p:cNvSpPr/>
          <p:nvPr/>
        </p:nvSpPr>
        <p:spPr>
          <a:xfrm>
            <a:off x="8153280" y="6172200"/>
            <a:ext cx="36216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9"/>
          <p:cNvSpPr/>
          <p:nvPr/>
        </p:nvSpPr>
        <p:spPr>
          <a:xfrm>
            <a:off x="8610480" y="6172200"/>
            <a:ext cx="36216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2">
            <a:hlinkClick r:id="rId2" action="ppaction://hlinksldjump"/>
          </p:cNvPr>
          <p:cNvSpPr/>
          <p:nvPr/>
        </p:nvSpPr>
        <p:spPr>
          <a:xfrm>
            <a:off x="7848720" y="6510240"/>
            <a:ext cx="304560" cy="347760"/>
          </a:xfrm>
          <a:custGeom>
            <a:avLst/>
            <a:gdLst>
              <a:gd name="textAreaLeft" fmla="*/ 0 w 304560"/>
              <a:gd name="textAreaRight" fmla="*/ 86040 w 304560"/>
              <a:gd name="textAreaTop" fmla="*/ 133920 h 347760"/>
              <a:gd name="textAreaBottom" fmla="*/ 348120 h 34776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3" descr="20051010192951263"/>
          <p:cNvPicPr/>
          <p:nvPr/>
        </p:nvPicPr>
        <p:blipFill>
          <a:blip r:embed="rId3"/>
          <a:stretch/>
        </p:blipFill>
        <p:spPr>
          <a:xfrm>
            <a:off x="3657600" y="3429000"/>
            <a:ext cx="52387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我</a:t>
            </a:r>
            <a:r>
              <a:rPr b="1" lang="zh-CN" sz="3200" spc="-1" strike="noStrike">
                <a:solidFill>
                  <a:srgbClr val="009999"/>
                </a:solidFill>
                <a:latin typeface="黑体"/>
              </a:rPr>
              <a:t>不过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是一个无力购买而又</a:t>
            </a:r>
            <a:r>
              <a:rPr b="1" lang="zh-CN" sz="3200" spc="-1" strike="noStrike">
                <a:solidFill>
                  <a:srgbClr val="009999"/>
                </a:solidFill>
                <a:latin typeface="黑体"/>
              </a:rPr>
              <a:t>渴望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读到那本书的穷学生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这句话以及第一段中描写窃读的句子和描写老板的句子写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热爱读书和老板冷酷无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页脚占位符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窃读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Rectangle 9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12">
            <a:hlinkClick r:id="rId3" action="ppaction://hlinksldjump"/>
          </p:cNvPr>
          <p:cNvSpPr/>
          <p:nvPr/>
        </p:nvSpPr>
        <p:spPr>
          <a:xfrm>
            <a:off x="7848720" y="6510240"/>
            <a:ext cx="304560" cy="347760"/>
          </a:xfrm>
          <a:custGeom>
            <a:avLst/>
            <a:gdLst>
              <a:gd name="textAreaLeft" fmla="*/ 0 w 304560"/>
              <a:gd name="textAreaRight" fmla="*/ 86040 w 304560"/>
              <a:gd name="textAreaTop" fmla="*/ 133920 h 347760"/>
              <a:gd name="textAreaBottom" fmla="*/ 348120 h 34776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3" descr="20051010192951263"/>
          <p:cNvPicPr/>
          <p:nvPr/>
        </p:nvPicPr>
        <p:blipFill>
          <a:blip r:embed="rId4"/>
          <a:stretch/>
        </p:blipFill>
        <p:spPr>
          <a:xfrm>
            <a:off x="3657600" y="3429000"/>
            <a:ext cx="52387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林海音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(1918.3.1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－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2001.12.1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原名林含英，小名英子，原籍台湾省苗栗县。父母曾东渡日本经商，林海音于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191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日生于日本大版，不久即返台。当时台湾已被日本帝国主义侵占，其父林焕父不甘在日寇铁蹄下生活，举家迁居北京，小英子即在北京长大。她毕业后任《世界日报》记者，不久与报社同事夏承楹结婚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194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月同丈夫带着三个孩子回到故乡台湾，任《国语日报》编辑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195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主编《联合报》副刊，开始文艺创作，并兼任《文星》杂志编辑和世界新闻学校教员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1967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年创办《纯文学杂志》，以后又经营纯文学出版社。 　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页脚占位符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窃读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Rectangle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2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3962520" y="0"/>
            <a:ext cx="4800600" cy="1638360"/>
          </a:xfrm>
          <a:prstGeom prst="rect">
            <a:avLst/>
          </a:prstGeom>
          <a:ln w="0">
            <a:noFill/>
          </a:ln>
        </p:spPr>
      </p:pic>
      <p:sp>
        <p:nvSpPr>
          <p:cNvPr id="49" name="AutoShape 7">
            <a:hlinkClick r:id="" action="ppaction://hlinkshowjump?jump=nextslide"/>
            <a:hlinkClick r:id="rId4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8">
            <a:hlinkClick r:id="" action="ppaction://hlinkshowjump?jump=firstslide"/>
            <a:hlinkClick r:id="rId5"/>
          </p:cNvPr>
          <p:cNvSpPr/>
          <p:nvPr/>
        </p:nvSpPr>
        <p:spPr>
          <a:xfrm>
            <a:off x="8229600" y="6400800"/>
            <a:ext cx="357120" cy="45720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457200"/>
              <a:gd name="textAreaBottom" fmla="*/ 434160 h 457200"/>
            </a:gdLst>
            <a:ahLst/>
            <a:rect l="textAreaLeft" t="textAreaTop" r="textAreaRight" b="textAreaBottom"/>
            <a:pathLst>
              <a:path w="21600" h="27647">
                <a:moveTo>
                  <a:pt x="0" y="0"/>
                </a:moveTo>
                <a:lnTo>
                  <a:pt x="21600" y="0"/>
                </a:lnTo>
                <a:lnTo>
                  <a:pt x="21600" y="27647"/>
                </a:lnTo>
                <a:lnTo>
                  <a:pt x="0" y="27647"/>
                </a:lnTo>
                <a:close/>
              </a:path>
              <a:path fill="lightenLess" w="21600" h="2764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47">
                <a:moveTo>
                  <a:pt x="21600" y="0"/>
                </a:moveTo>
                <a:lnTo>
                  <a:pt x="21600" y="27647"/>
                </a:lnTo>
                <a:lnTo>
                  <a:pt x="20200" y="26247"/>
                </a:lnTo>
                <a:lnTo>
                  <a:pt x="20200" y="1400"/>
                </a:lnTo>
                <a:close/>
              </a:path>
              <a:path fill="darkenLess" w="21600" h="27647">
                <a:moveTo>
                  <a:pt x="21600" y="27647"/>
                </a:moveTo>
                <a:lnTo>
                  <a:pt x="0" y="27647"/>
                </a:lnTo>
                <a:lnTo>
                  <a:pt x="1400" y="26247"/>
                </a:lnTo>
                <a:lnTo>
                  <a:pt x="20200" y="26247"/>
                </a:lnTo>
                <a:close/>
              </a:path>
              <a:path fill="lighten" w="21600" h="27647">
                <a:moveTo>
                  <a:pt x="0" y="27647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47"/>
                </a:lnTo>
                <a:close/>
              </a:path>
              <a:path fill="darken" w="21600" h="27647">
                <a:moveTo>
                  <a:pt x="10800" y="6861"/>
                </a:moveTo>
                <a:lnTo>
                  <a:pt x="13376" y="9472"/>
                </a:lnTo>
                <a:lnTo>
                  <a:pt x="13376" y="7731"/>
                </a:lnTo>
                <a:lnTo>
                  <a:pt x="15152" y="7731"/>
                </a:lnTo>
                <a:lnTo>
                  <a:pt x="15152" y="11247"/>
                </a:lnTo>
                <a:lnTo>
                  <a:pt x="17763" y="13824"/>
                </a:lnTo>
                <a:lnTo>
                  <a:pt x="16109" y="13824"/>
                </a:lnTo>
                <a:lnTo>
                  <a:pt x="16109" y="21013"/>
                </a:lnTo>
                <a:lnTo>
                  <a:pt x="5491" y="21013"/>
                </a:lnTo>
                <a:lnTo>
                  <a:pt x="5491" y="13824"/>
                </a:lnTo>
                <a:lnTo>
                  <a:pt x="3837" y="13824"/>
                </a:lnTo>
                <a:close/>
              </a:path>
              <a:path fill="darkenLess" w="21600" h="27647">
                <a:moveTo>
                  <a:pt x="13376" y="9472"/>
                </a:moveTo>
                <a:lnTo>
                  <a:pt x="13376" y="7731"/>
                </a:lnTo>
                <a:lnTo>
                  <a:pt x="15152" y="7731"/>
                </a:lnTo>
                <a:lnTo>
                  <a:pt x="15152" y="11247"/>
                </a:lnTo>
                <a:close/>
              </a:path>
              <a:path fill="darkenLess" w="21600" h="27647">
                <a:moveTo>
                  <a:pt x="9877" y="17322"/>
                </a:moveTo>
                <a:lnTo>
                  <a:pt x="11723" y="17322"/>
                </a:lnTo>
                <a:lnTo>
                  <a:pt x="11723" y="21013"/>
                </a:lnTo>
                <a:lnTo>
                  <a:pt x="16109" y="21013"/>
                </a:lnTo>
                <a:lnTo>
                  <a:pt x="16109" y="13824"/>
                </a:lnTo>
                <a:lnTo>
                  <a:pt x="5491" y="13824"/>
                </a:lnTo>
                <a:lnTo>
                  <a:pt x="5491" y="21013"/>
                </a:lnTo>
                <a:lnTo>
                  <a:pt x="9877" y="2101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-360" y="685440"/>
            <a:ext cx="9372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曾经有一天，我偶然走过书店的窗前，窗里刚好摆了几本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慕名很久而无缘一读的名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欲望推动着我，不由得走进书店，想打听一下它的价钱。也许是我太矮小了，不引人注意，竟没有人过来招呼，我就随便翻开一本摆在长桌上的书，慢慢读下去，读了一会仍没有人理会，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而书中的故事已使我全神贯注，舍不得放下了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直到好大功夫，才过来一位店员，我赶忙合起书来递给他看，像煞有介事地问他价钱，我明知道，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任何便宜价钱对于我都是枉然的，我绝没有多余的钱去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页脚占位符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窃读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Rectangle 2" descr=""/>
          <p:cNvPicPr/>
          <p:nvPr/>
        </p:nvPicPr>
        <p:blipFill>
          <a:blip r:embed="rId2"/>
          <a:stretch/>
        </p:blipFill>
        <p:spPr>
          <a:xfrm>
            <a:off x="-36360" y="-176040"/>
            <a:ext cx="8815320" cy="944280"/>
          </a:xfrm>
          <a:prstGeom prst="rect">
            <a:avLst/>
          </a:prstGeom>
          <a:ln w="0">
            <a:noFill/>
          </a:ln>
        </p:spPr>
      </p:pic>
      <p:sp>
        <p:nvSpPr>
          <p:cNvPr id="144" name="AutoShape 7">
            <a:hlinkClick r:id="rId3" action="ppaction://hlinksldjump"/>
          </p:cNvPr>
          <p:cNvSpPr/>
          <p:nvPr/>
        </p:nvSpPr>
        <p:spPr>
          <a:xfrm>
            <a:off x="8381880" y="6553080"/>
            <a:ext cx="533520" cy="304920"/>
          </a:xfrm>
          <a:custGeom>
            <a:avLst/>
            <a:gdLst>
              <a:gd name="textAreaLeft" fmla="*/ 151200 w 533520"/>
              <a:gd name="textAreaRight" fmla="*/ 382320 w 533520"/>
              <a:gd name="textAreaTop" fmla="*/ 66600 h 304920"/>
              <a:gd name="textAreaBottom" fmla="*/ 238320 h 304920"/>
            </a:gdLst>
            <a:ahLst/>
            <a:rect l="textAreaLeft" t="textAreaTop" r="textAreaRight" b="textAreaBottom"/>
            <a:pathLst>
              <a:path w="21600" h="21600">
                <a:moveTo>
                  <a:pt x="0" y="4729"/>
                </a:moveTo>
                <a:lnTo>
                  <a:pt x="10712" y="4729"/>
                </a:lnTo>
                <a:lnTo>
                  <a:pt x="10712" y="0"/>
                </a:lnTo>
                <a:lnTo>
                  <a:pt x="21600" y="10800"/>
                </a:lnTo>
                <a:lnTo>
                  <a:pt x="10712" y="21600"/>
                </a:lnTo>
                <a:lnTo>
                  <a:pt x="10712" y="16871"/>
                </a:lnTo>
                <a:lnTo>
                  <a:pt x="0" y="16871"/>
                </a:lnTo>
                <a:lnTo>
                  <a:pt x="6120" y="10800"/>
                </a:lnTo>
                <a:lnTo>
                  <a:pt x="0" y="472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8">
            <a:hlinkClick r:id="rId4" action="ppaction://hlinksldjump"/>
          </p:cNvPr>
          <p:cNvSpPr/>
          <p:nvPr/>
        </p:nvSpPr>
        <p:spPr>
          <a:xfrm>
            <a:off x="7848720" y="6510240"/>
            <a:ext cx="304560" cy="347760"/>
          </a:xfrm>
          <a:custGeom>
            <a:avLst/>
            <a:gdLst>
              <a:gd name="textAreaLeft" fmla="*/ 0 w 304560"/>
              <a:gd name="textAreaRight" fmla="*/ 86040 w 304560"/>
              <a:gd name="textAreaTop" fmla="*/ 133920 h 347760"/>
              <a:gd name="textAreaBottom" fmla="*/ 348120 h 34776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2411280" y="566100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（红色的字表示我窃读的缘由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24000" y="1557000"/>
            <a:ext cx="8540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但是自此以后，我得了一条不费一文读书的门径，下课后急忙赶到这条“文化街”，这里书店林立，使我有更多的机会。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一页，两页，我如饥饿的瘦狼，贪婪地吞读下去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很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快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也惧怕，这种窃读的滋味！有时一本书我要分别到几家书店去读完，比如当我觉得当时的环境已不适宜我再在这家书店站下去的话，我便要知趣地放下书，若无其事地走出去，然后再走入另一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页脚占位符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窃读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Rectangle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8">
            <a:hlinkClick r:id="rId3" action="ppaction://hlinksldjump"/>
          </p:cNvPr>
          <p:cNvSpPr/>
          <p:nvPr/>
        </p:nvSpPr>
        <p:spPr>
          <a:xfrm>
            <a:off x="8381880" y="6553080"/>
            <a:ext cx="533520" cy="304920"/>
          </a:xfrm>
          <a:custGeom>
            <a:avLst/>
            <a:gdLst>
              <a:gd name="textAreaLeft" fmla="*/ 151200 w 533520"/>
              <a:gd name="textAreaRight" fmla="*/ 382320 w 533520"/>
              <a:gd name="textAreaTop" fmla="*/ 66600 h 304920"/>
              <a:gd name="textAreaBottom" fmla="*/ 238320 h 304920"/>
            </a:gdLst>
            <a:ahLst/>
            <a:rect l="textAreaLeft" t="textAreaTop" r="textAreaRight" b="textAreaBottom"/>
            <a:pathLst>
              <a:path w="21600" h="21600">
                <a:moveTo>
                  <a:pt x="0" y="4729"/>
                </a:moveTo>
                <a:lnTo>
                  <a:pt x="10712" y="4729"/>
                </a:lnTo>
                <a:lnTo>
                  <a:pt x="10712" y="0"/>
                </a:lnTo>
                <a:lnTo>
                  <a:pt x="21600" y="10800"/>
                </a:lnTo>
                <a:lnTo>
                  <a:pt x="10712" y="21600"/>
                </a:lnTo>
                <a:lnTo>
                  <a:pt x="10712" y="16871"/>
                </a:lnTo>
                <a:lnTo>
                  <a:pt x="0" y="16871"/>
                </a:lnTo>
                <a:lnTo>
                  <a:pt x="6120" y="10800"/>
                </a:lnTo>
                <a:lnTo>
                  <a:pt x="0" y="472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9">
            <a:hlinkClick r:id="rId4" action="ppaction://hlinksldjump"/>
          </p:cNvPr>
          <p:cNvSpPr/>
          <p:nvPr/>
        </p:nvSpPr>
        <p:spPr>
          <a:xfrm>
            <a:off x="7848720" y="6510240"/>
            <a:ext cx="304560" cy="347760"/>
          </a:xfrm>
          <a:custGeom>
            <a:avLst/>
            <a:gdLst>
              <a:gd name="textAreaLeft" fmla="*/ 0 w 304560"/>
              <a:gd name="textAreaRight" fmla="*/ 86040 w 304560"/>
              <a:gd name="textAreaTop" fmla="*/ 133920 h 347760"/>
              <a:gd name="textAreaBottom" fmla="*/ 348120 h 34776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2987640" y="6093000"/>
            <a:ext cx="51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绿色的字表明我非常爱看书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页脚占位符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窃读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框（86）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3"/>
          <p:cNvSpPr/>
          <p:nvPr/>
        </p:nvSpPr>
        <p:spPr>
          <a:xfrm>
            <a:off x="2340000" y="333360"/>
            <a:ext cx="727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cc00"/>
                </a:solidFill>
                <a:latin typeface="Arial"/>
                <a:ea typeface="华文新魏"/>
              </a:rPr>
              <a:t>一个渴望读书而不怕艰辛、勤于读书的穷学生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WordArt 4"/>
          <p:cNvSpPr txBox="1"/>
          <p:nvPr/>
        </p:nvSpPr>
        <p:spPr>
          <a:xfrm>
            <a:off x="324000" y="404640"/>
            <a:ext cx="1871640" cy="157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新魏"/>
              </a:rPr>
              <a:t>“</a:t>
            </a: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新魏"/>
              </a:rPr>
              <a:t>我”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1295280" y="1676520"/>
            <a:ext cx="70106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忙打开书，一页，两页，我像一匹饿狼，贪婪地读着，我很快乐，也很惧怕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种窃读的滋味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第四自然段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者快乐的是什么？惧怕的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1403280" y="4653000"/>
            <a:ext cx="64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比喻，略带夸张。形象地刻画了“我”对于读书的深度渴望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饥似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“窃读”的复杂心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我希望到顾客正多着的书店，就是因为那样可以把矮小的我挤进去，而不知被人注意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偶然进来看看闲书的人虽然很多，但是像我这样常常光顾而从不买一本的，实在没有。因此我要把自己隐藏起来，真是像个小偷似的。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有时我贴在一个大人的身边，仿佛我是与他同来的小妹妹或者女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页脚占位符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窃读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Rectangle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162" name="AutoShape 7">
            <a:hlinkClick r:id="rId3" action="ppaction://hlinksldjump"/>
          </p:cNvPr>
          <p:cNvSpPr/>
          <p:nvPr/>
        </p:nvSpPr>
        <p:spPr>
          <a:xfrm>
            <a:off x="8381880" y="6553080"/>
            <a:ext cx="533520" cy="304920"/>
          </a:xfrm>
          <a:custGeom>
            <a:avLst/>
            <a:gdLst>
              <a:gd name="textAreaLeft" fmla="*/ 151200 w 533520"/>
              <a:gd name="textAreaRight" fmla="*/ 382320 w 533520"/>
              <a:gd name="textAreaTop" fmla="*/ 66600 h 304920"/>
              <a:gd name="textAreaBottom" fmla="*/ 238320 h 304920"/>
            </a:gdLst>
            <a:ahLst/>
            <a:rect l="textAreaLeft" t="textAreaTop" r="textAreaRight" b="textAreaBottom"/>
            <a:pathLst>
              <a:path w="21600" h="21600">
                <a:moveTo>
                  <a:pt x="0" y="4729"/>
                </a:moveTo>
                <a:lnTo>
                  <a:pt x="10712" y="4729"/>
                </a:lnTo>
                <a:lnTo>
                  <a:pt x="10712" y="0"/>
                </a:lnTo>
                <a:lnTo>
                  <a:pt x="21600" y="10800"/>
                </a:lnTo>
                <a:lnTo>
                  <a:pt x="10712" y="21600"/>
                </a:lnTo>
                <a:lnTo>
                  <a:pt x="10712" y="16871"/>
                </a:lnTo>
                <a:lnTo>
                  <a:pt x="0" y="16871"/>
                </a:lnTo>
                <a:lnTo>
                  <a:pt x="6120" y="10800"/>
                </a:lnTo>
                <a:lnTo>
                  <a:pt x="0" y="472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8">
            <a:hlinkClick r:id="rId4" action="ppaction://hlinksldjump"/>
          </p:cNvPr>
          <p:cNvSpPr/>
          <p:nvPr/>
        </p:nvSpPr>
        <p:spPr>
          <a:xfrm>
            <a:off x="8381880" y="6553080"/>
            <a:ext cx="533520" cy="304920"/>
          </a:xfrm>
          <a:custGeom>
            <a:avLst/>
            <a:gdLst>
              <a:gd name="textAreaLeft" fmla="*/ 151200 w 533520"/>
              <a:gd name="textAreaRight" fmla="*/ 382320 w 533520"/>
              <a:gd name="textAreaTop" fmla="*/ 66600 h 304920"/>
              <a:gd name="textAreaBottom" fmla="*/ 238320 h 304920"/>
            </a:gdLst>
            <a:ahLst/>
            <a:rect l="textAreaLeft" t="textAreaTop" r="textAreaRight" b="textAreaBottom"/>
            <a:pathLst>
              <a:path w="21600" h="21600">
                <a:moveTo>
                  <a:pt x="0" y="4729"/>
                </a:moveTo>
                <a:lnTo>
                  <a:pt x="10712" y="4729"/>
                </a:lnTo>
                <a:lnTo>
                  <a:pt x="10712" y="0"/>
                </a:lnTo>
                <a:lnTo>
                  <a:pt x="21600" y="10800"/>
                </a:lnTo>
                <a:lnTo>
                  <a:pt x="10712" y="21600"/>
                </a:lnTo>
                <a:lnTo>
                  <a:pt x="10712" y="16871"/>
                </a:lnTo>
                <a:lnTo>
                  <a:pt x="0" y="16871"/>
                </a:lnTo>
                <a:lnTo>
                  <a:pt x="6120" y="10800"/>
                </a:lnTo>
                <a:lnTo>
                  <a:pt x="0" y="472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9">
            <a:hlinkClick r:id="rId5" action="ppaction://hlinksldjump"/>
          </p:cNvPr>
          <p:cNvSpPr/>
          <p:nvPr/>
        </p:nvSpPr>
        <p:spPr>
          <a:xfrm>
            <a:off x="7848720" y="6510240"/>
            <a:ext cx="304560" cy="347760"/>
          </a:xfrm>
          <a:custGeom>
            <a:avLst/>
            <a:gdLst>
              <a:gd name="textAreaLeft" fmla="*/ 0 w 304560"/>
              <a:gd name="textAreaRight" fmla="*/ 86040 w 304560"/>
              <a:gd name="textAreaTop" fmla="*/ 133920 h 347760"/>
              <a:gd name="textAreaBottom" fmla="*/ 348120 h 34776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1835280" y="5373720"/>
            <a:ext cx="541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玫红色词句：我怕被人发现所采用的方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页脚占位符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窃读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框（86）"/>
          <p:cNvPicPr/>
          <p:nvPr/>
        </p:nvPicPr>
        <p:blipFill>
          <a:blip r:embed="rId2"/>
          <a:stretch/>
        </p:blipFill>
        <p:spPr>
          <a:xfrm>
            <a:off x="-152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3"/>
          <p:cNvSpPr/>
          <p:nvPr/>
        </p:nvSpPr>
        <p:spPr>
          <a:xfrm>
            <a:off x="152280" y="1447920"/>
            <a:ext cx="8229600" cy="39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当她感觉当时的环境已不适宜再读下去的时候，她会                                      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了隐藏自己，她会                           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最令她开心的是下雨天，为了让别人更相信自己，她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  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4"/>
          <p:cNvSpPr/>
          <p:nvPr/>
        </p:nvSpPr>
        <p:spPr>
          <a:xfrm>
            <a:off x="3200400" y="274320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5"/>
          <p:cNvSpPr/>
          <p:nvPr/>
        </p:nvSpPr>
        <p:spPr>
          <a:xfrm>
            <a:off x="4419720" y="365760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6"/>
          <p:cNvSpPr/>
          <p:nvPr/>
        </p:nvSpPr>
        <p:spPr>
          <a:xfrm>
            <a:off x="3581280" y="5181480"/>
            <a:ext cx="324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3276720" y="2133720"/>
            <a:ext cx="459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Arial"/>
              </a:rPr>
              <a:t>知趣地放下书走出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4267080" y="28954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Arial"/>
              </a:rPr>
              <a:t>贴在一个大人的身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4114800" y="4572000"/>
            <a:ext cx="224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Arial"/>
              </a:rPr>
              <a:t>假装发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）发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窃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这一好方法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）到几家书店读完一本书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）装作其他顾客的家属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）以雨天避雨为借口留在书店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）用花生米充饥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）藏在书店一角避免引人注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页脚占位符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窃读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Rectangle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178" name="AutoShape 4">
            <a:hlinkClick r:id="rId3" action="ppaction://hlinksldjump"/>
          </p:cNvPr>
          <p:cNvSpPr/>
          <p:nvPr/>
        </p:nvSpPr>
        <p:spPr>
          <a:xfrm>
            <a:off x="8381880" y="6553080"/>
            <a:ext cx="533520" cy="304920"/>
          </a:xfrm>
          <a:custGeom>
            <a:avLst/>
            <a:gdLst>
              <a:gd name="textAreaLeft" fmla="*/ 151200 w 533520"/>
              <a:gd name="textAreaRight" fmla="*/ 382320 w 533520"/>
              <a:gd name="textAreaTop" fmla="*/ 66600 h 304920"/>
              <a:gd name="textAreaBottom" fmla="*/ 238320 h 304920"/>
            </a:gdLst>
            <a:ahLst/>
            <a:rect l="textAreaLeft" t="textAreaTop" r="textAreaRight" b="textAreaBottom"/>
            <a:pathLst>
              <a:path w="21600" h="21600">
                <a:moveTo>
                  <a:pt x="0" y="4729"/>
                </a:moveTo>
                <a:lnTo>
                  <a:pt x="10712" y="4729"/>
                </a:lnTo>
                <a:lnTo>
                  <a:pt x="10712" y="0"/>
                </a:lnTo>
                <a:lnTo>
                  <a:pt x="21600" y="10800"/>
                </a:lnTo>
                <a:lnTo>
                  <a:pt x="10712" y="21600"/>
                </a:lnTo>
                <a:lnTo>
                  <a:pt x="10712" y="16871"/>
                </a:lnTo>
                <a:lnTo>
                  <a:pt x="0" y="16871"/>
                </a:lnTo>
                <a:lnTo>
                  <a:pt x="6120" y="10800"/>
                </a:lnTo>
                <a:lnTo>
                  <a:pt x="0" y="472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5">
            <a:hlinkClick r:id="rId4" action="ppaction://hlinksldjump"/>
          </p:cNvPr>
          <p:cNvSpPr/>
          <p:nvPr/>
        </p:nvSpPr>
        <p:spPr>
          <a:xfrm>
            <a:off x="7848720" y="6510240"/>
            <a:ext cx="304560" cy="347760"/>
          </a:xfrm>
          <a:custGeom>
            <a:avLst/>
            <a:gdLst>
              <a:gd name="textAreaLeft" fmla="*/ 0 w 304560"/>
              <a:gd name="textAreaRight" fmla="*/ 86040 w 304560"/>
              <a:gd name="textAreaTop" fmla="*/ 133920 h 347760"/>
              <a:gd name="textAreaBottom" fmla="*/ 348120 h 34776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0000"/>
                </a:solidFill>
                <a:latin typeface="Arial"/>
              </a:rPr>
              <a:t>以上段落写出了作者酷爱读书，但怕被老板、店员发现，所以想出许多方法窃读。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页脚占位符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窃读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Rectangle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183" name="AutoShape 5">
            <a:hlinkClick r:id="rId3" action="ppaction://hlinksldjump"/>
          </p:cNvPr>
          <p:cNvSpPr/>
          <p:nvPr/>
        </p:nvSpPr>
        <p:spPr>
          <a:xfrm>
            <a:off x="7848720" y="6510240"/>
            <a:ext cx="304560" cy="347760"/>
          </a:xfrm>
          <a:custGeom>
            <a:avLst/>
            <a:gdLst>
              <a:gd name="textAreaLeft" fmla="*/ 0 w 304560"/>
              <a:gd name="textAreaRight" fmla="*/ 86040 w 304560"/>
              <a:gd name="textAreaTop" fmla="*/ 133920 h 347760"/>
              <a:gd name="textAreaBottom" fmla="*/ 348120 h 34776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6" descr="20051010192951263"/>
          <p:cNvPicPr/>
          <p:nvPr/>
        </p:nvPicPr>
        <p:blipFill>
          <a:blip r:embed="rId4"/>
          <a:stretch/>
        </p:blipFill>
        <p:spPr>
          <a:xfrm>
            <a:off x="3657600" y="3429000"/>
            <a:ext cx="523872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900" spc="-1" strike="noStrike">
                <a:solidFill>
                  <a:srgbClr val="000000"/>
                </a:solidFill>
                <a:latin typeface="Arial"/>
              </a:rPr>
              <a:t>因窃读受到店主羞辱后，我的心灵受到创伤，将一首像为我写照的小诗抄录下来，并贴在床前诵读。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页脚占位符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窃读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Rectangle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5">
            <a:hlinkClick r:id="rId3" action="ppaction://hlinksldjump"/>
          </p:cNvPr>
          <p:cNvSpPr/>
          <p:nvPr/>
        </p:nvSpPr>
        <p:spPr>
          <a:xfrm>
            <a:off x="7848720" y="6510240"/>
            <a:ext cx="304560" cy="347760"/>
          </a:xfrm>
          <a:custGeom>
            <a:avLst/>
            <a:gdLst>
              <a:gd name="textAreaLeft" fmla="*/ 0 w 304560"/>
              <a:gd name="textAreaRight" fmla="*/ 86040 w 304560"/>
              <a:gd name="textAreaTop" fmla="*/ 133920 h 347760"/>
              <a:gd name="textAreaBottom" fmla="*/ 348120 h 34776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6" descr="20051010192951263"/>
          <p:cNvPicPr/>
          <p:nvPr/>
        </p:nvPicPr>
        <p:blipFill>
          <a:blip r:embed="rId4"/>
          <a:stretch/>
        </p:blipFill>
        <p:spPr>
          <a:xfrm>
            <a:off x="3657600" y="3429000"/>
            <a:ext cx="5238720" cy="380988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不再去书店，许多次我经过文化街，都狠心咬牙地走过去。但一次，两次，我下意识地走向那熟悉的街，终于有一天，求知的欲望迫使我再度停下来，我仍愿一试，因为一本新书的出版广告，我从报上知道好多天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页脚占位符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窃读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Rectangle 2" descr=""/>
          <p:cNvPicPr/>
          <p:nvPr/>
        </p:nvPicPr>
        <p:blipFill>
          <a:blip r:embed="rId2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  <p:sp>
        <p:nvSpPr>
          <p:cNvPr id="193" name="AutoShape 5">
            <a:hlinkClick r:id="rId3" action="ppaction://hlinksldjump"/>
          </p:cNvPr>
          <p:cNvSpPr/>
          <p:nvPr/>
        </p:nvSpPr>
        <p:spPr>
          <a:xfrm>
            <a:off x="7848720" y="6510240"/>
            <a:ext cx="304560" cy="347760"/>
          </a:xfrm>
          <a:custGeom>
            <a:avLst/>
            <a:gdLst>
              <a:gd name="textAreaLeft" fmla="*/ 0 w 304560"/>
              <a:gd name="textAreaRight" fmla="*/ 86040 w 304560"/>
              <a:gd name="textAreaTop" fmla="*/ 133920 h 347760"/>
              <a:gd name="textAreaBottom" fmla="*/ 348120 h 34776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6" descr="20051010192951263"/>
          <p:cNvPicPr/>
          <p:nvPr/>
        </p:nvPicPr>
        <p:blipFill>
          <a:blip r:embed="rId4"/>
          <a:stretch/>
        </p:blipFill>
        <p:spPr>
          <a:xfrm>
            <a:off x="3657600" y="3429000"/>
            <a:ext cx="5238720" cy="38098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0" y="19051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cc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正在这时，一个耳朵架着铅笔的店员走过来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看那样子是来招呼我的（我多么怕受人招待！）。我慌忙把眼睛送上了书架，装作没看见。但是一本书触着我的胳膊，轻轻地送到我的面前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请看吧，我多留了一天没有卖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啊，我接过书害羞得不知道该如何对他表示我的感激，他却若无其事地走开了。被冲动的情感，使我的眼光久久不能集中在书本的黑字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页脚占位符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窃读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Rectangle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198" name="AutoShape 7"/>
          <p:cNvSpPr/>
          <p:nvPr/>
        </p:nvSpPr>
        <p:spPr>
          <a:xfrm>
            <a:off x="7848720" y="6510240"/>
            <a:ext cx="304560" cy="347760"/>
          </a:xfrm>
          <a:custGeom>
            <a:avLst/>
            <a:gdLst>
              <a:gd name="textAreaLeft" fmla="*/ 0 w 304560"/>
              <a:gd name="textAreaRight" fmla="*/ 86040 w 304560"/>
              <a:gd name="textAreaTop" fmla="*/ 133920 h 347760"/>
              <a:gd name="textAreaBottom" fmla="*/ 348120 h 34776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4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9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4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林海音的创作是丰厚的。讫今为止，已出版十八本书。散文集《窗》、《两地》、《作客美国》、《芸窗夜读》、《剪影话文坛》《一家之主》、《家住书坊边》，散文小说合集《冬青树》，短篇小说集《烛心》、《婚姻的故事》、《城南旧事》、《绿藻与咸蛋》；长篇小说《春风》、《晓云》、《孟珠的旅程》，广播剧集《薇薇的周记》、《林海音自选集》、《林海音童话集》，编选《中国近代作家与作品》，此外，还有许多文学评论、散文等，散见于台湾报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页脚占位符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窃读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Rectangle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4">
            <a:hlinkClick r:id="" action="ppaction://hlinkshowjump?jump=previousslide"/>
            <a:hlinkClick r:id="rId3"/>
          </p:cNvPr>
          <p:cNvSpPr/>
          <p:nvPr/>
        </p:nvSpPr>
        <p:spPr>
          <a:xfrm>
            <a:off x="8763120" y="6500880"/>
            <a:ext cx="380880" cy="357120"/>
          </a:xfrm>
          <a:custGeom>
            <a:avLst/>
            <a:gdLst>
              <a:gd name="textAreaLeft" fmla="*/ 23040 w 380880"/>
              <a:gd name="textAreaRight" fmla="*/ 357840 w 3808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3036" h="21600">
                <a:moveTo>
                  <a:pt x="0" y="0"/>
                </a:moveTo>
                <a:lnTo>
                  <a:pt x="23036" y="0"/>
                </a:lnTo>
                <a:lnTo>
                  <a:pt x="23036" y="21600"/>
                </a:lnTo>
                <a:lnTo>
                  <a:pt x="0" y="21600"/>
                </a:lnTo>
                <a:close/>
              </a:path>
              <a:path fill="lightenLess" w="23036" h="21600">
                <a:moveTo>
                  <a:pt x="0" y="0"/>
                </a:moveTo>
                <a:lnTo>
                  <a:pt x="23036" y="0"/>
                </a:lnTo>
                <a:lnTo>
                  <a:pt x="21636" y="1400"/>
                </a:lnTo>
                <a:lnTo>
                  <a:pt x="1400" y="1400"/>
                </a:lnTo>
                <a:close/>
              </a:path>
              <a:path fill="darken" w="23036" h="21600">
                <a:moveTo>
                  <a:pt x="23036" y="0"/>
                </a:moveTo>
                <a:lnTo>
                  <a:pt x="23036" y="21600"/>
                </a:lnTo>
                <a:lnTo>
                  <a:pt x="21636" y="20200"/>
                </a:lnTo>
                <a:lnTo>
                  <a:pt x="21636" y="1400"/>
                </a:lnTo>
                <a:close/>
              </a:path>
              <a:path fill="darkenLess" w="23036" h="21600">
                <a:moveTo>
                  <a:pt x="23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36" y="20200"/>
                </a:lnTo>
                <a:close/>
              </a:path>
              <a:path fill="lighten" w="23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36" h="21600">
                <a:moveTo>
                  <a:pt x="4511" y="10800"/>
                </a:moveTo>
                <a:lnTo>
                  <a:pt x="18524" y="3794"/>
                </a:lnTo>
                <a:lnTo>
                  <a:pt x="185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5">
            <a:hlinkClick r:id="" action="ppaction://hlinkshowjump?jump=firstslide"/>
            <a:hlinkClick r:id="rId4"/>
          </p:cNvPr>
          <p:cNvSpPr/>
          <p:nvPr/>
        </p:nvSpPr>
        <p:spPr>
          <a:xfrm>
            <a:off x="8229600" y="6400800"/>
            <a:ext cx="357120" cy="45720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457200"/>
              <a:gd name="textAreaBottom" fmla="*/ 434160 h 457200"/>
            </a:gdLst>
            <a:ahLst/>
            <a:rect l="textAreaLeft" t="textAreaTop" r="textAreaRight" b="textAreaBottom"/>
            <a:pathLst>
              <a:path w="21600" h="27647">
                <a:moveTo>
                  <a:pt x="0" y="0"/>
                </a:moveTo>
                <a:lnTo>
                  <a:pt x="21600" y="0"/>
                </a:lnTo>
                <a:lnTo>
                  <a:pt x="21600" y="27647"/>
                </a:lnTo>
                <a:lnTo>
                  <a:pt x="0" y="27647"/>
                </a:lnTo>
                <a:close/>
              </a:path>
              <a:path fill="lightenLess" w="21600" h="2764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47">
                <a:moveTo>
                  <a:pt x="21600" y="0"/>
                </a:moveTo>
                <a:lnTo>
                  <a:pt x="21600" y="27647"/>
                </a:lnTo>
                <a:lnTo>
                  <a:pt x="20200" y="26247"/>
                </a:lnTo>
                <a:lnTo>
                  <a:pt x="20200" y="1400"/>
                </a:lnTo>
                <a:close/>
              </a:path>
              <a:path fill="darkenLess" w="21600" h="27647">
                <a:moveTo>
                  <a:pt x="21600" y="27647"/>
                </a:moveTo>
                <a:lnTo>
                  <a:pt x="0" y="27647"/>
                </a:lnTo>
                <a:lnTo>
                  <a:pt x="1400" y="26247"/>
                </a:lnTo>
                <a:lnTo>
                  <a:pt x="20200" y="26247"/>
                </a:lnTo>
                <a:close/>
              </a:path>
              <a:path fill="lighten" w="21600" h="27647">
                <a:moveTo>
                  <a:pt x="0" y="27647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47"/>
                </a:lnTo>
                <a:close/>
              </a:path>
              <a:path fill="darken" w="21600" h="27647">
                <a:moveTo>
                  <a:pt x="10800" y="6861"/>
                </a:moveTo>
                <a:lnTo>
                  <a:pt x="13376" y="9472"/>
                </a:lnTo>
                <a:lnTo>
                  <a:pt x="13376" y="7731"/>
                </a:lnTo>
                <a:lnTo>
                  <a:pt x="15152" y="7731"/>
                </a:lnTo>
                <a:lnTo>
                  <a:pt x="15152" y="11247"/>
                </a:lnTo>
                <a:lnTo>
                  <a:pt x="17763" y="13824"/>
                </a:lnTo>
                <a:lnTo>
                  <a:pt x="16109" y="13824"/>
                </a:lnTo>
                <a:lnTo>
                  <a:pt x="16109" y="21013"/>
                </a:lnTo>
                <a:lnTo>
                  <a:pt x="5491" y="21013"/>
                </a:lnTo>
                <a:lnTo>
                  <a:pt x="5491" y="13824"/>
                </a:lnTo>
                <a:lnTo>
                  <a:pt x="3837" y="13824"/>
                </a:lnTo>
                <a:close/>
              </a:path>
              <a:path fill="darkenLess" w="21600" h="27647">
                <a:moveTo>
                  <a:pt x="13376" y="9472"/>
                </a:moveTo>
                <a:lnTo>
                  <a:pt x="13376" y="7731"/>
                </a:lnTo>
                <a:lnTo>
                  <a:pt x="15152" y="7731"/>
                </a:lnTo>
                <a:lnTo>
                  <a:pt x="15152" y="11247"/>
                </a:lnTo>
                <a:close/>
              </a:path>
              <a:path fill="darkenLess" w="21600" h="27647">
                <a:moveTo>
                  <a:pt x="9877" y="17322"/>
                </a:moveTo>
                <a:lnTo>
                  <a:pt x="11723" y="17322"/>
                </a:lnTo>
                <a:lnTo>
                  <a:pt x="11723" y="21013"/>
                </a:lnTo>
                <a:lnTo>
                  <a:pt x="16109" y="21013"/>
                </a:lnTo>
                <a:lnTo>
                  <a:pt x="16109" y="13824"/>
                </a:lnTo>
                <a:lnTo>
                  <a:pt x="5491" y="13824"/>
                </a:lnTo>
                <a:lnTo>
                  <a:pt x="5491" y="21013"/>
                </a:lnTo>
                <a:lnTo>
                  <a:pt x="9877" y="2101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900" spc="-1" strike="noStrike">
                <a:solidFill>
                  <a:srgbClr val="000000"/>
                </a:solidFill>
                <a:latin typeface="Arial"/>
              </a:rPr>
              <a:t>当书店里的日光灯忽地亮了起来，我才觉出站在这里读了两个钟点了。我合上最后一页——咽了一口唾沫，好像所有的智慧都被我吞噬下去了。然后抬头找寻那耳朵上架着铅笔的人，好交还他这本书。在远远的柜台旁，他向我轻轻地点点头，表示他已经知道我看完了，我默默地把书放回书架上。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页脚占位符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窃读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Rectangle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202" name="AutoShape 5"/>
          <p:cNvSpPr/>
          <p:nvPr/>
        </p:nvSpPr>
        <p:spPr>
          <a:xfrm>
            <a:off x="7848720" y="6510240"/>
            <a:ext cx="304560" cy="347760"/>
          </a:xfrm>
          <a:custGeom>
            <a:avLst/>
            <a:gdLst>
              <a:gd name="textAreaLeft" fmla="*/ 0 w 304560"/>
              <a:gd name="textAreaRight" fmla="*/ 86040 w 304560"/>
              <a:gd name="textAreaTop" fmla="*/ 133920 h 347760"/>
              <a:gd name="textAreaBottom" fmla="*/ 348120 h 34776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页脚占位符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窃读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2" descr="框（86）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3"/>
          <p:cNvSpPr/>
          <p:nvPr/>
        </p:nvSpPr>
        <p:spPr>
          <a:xfrm>
            <a:off x="2340000" y="333360"/>
            <a:ext cx="727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一个渴望读书而不怕艰辛、勤于读书的穷学生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1066680" y="1752480"/>
            <a:ext cx="73915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读书读到</a:t>
            </a:r>
            <a:r>
              <a:rPr b="1" lang="zh-CN" sz="3200" spc="-1" strike="noStrike">
                <a:solidFill>
                  <a:srgbClr val="99cc00"/>
                </a:solidFill>
                <a:latin typeface="黑体"/>
                <a:ea typeface="黑体"/>
              </a:rPr>
              <a:t>忘我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境界，</a:t>
            </a:r>
            <a:r>
              <a:rPr b="1" lang="zh-CN" sz="3200" spc="-1" strike="noStrike">
                <a:solidFill>
                  <a:srgbClr val="99cc00"/>
                </a:solidFill>
                <a:latin typeface="黑体"/>
                <a:ea typeface="黑体"/>
              </a:rPr>
              <a:t>如痴如醉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书店的日光灯忽地亮了起来，我才发觉已经站在这里读了两个多钟头了。我合上书，咽了一口唾沫，好象把所有的智慧都吞下去了。然后才依依不舍地把书放回书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形象地描写出自己读完书后</a:t>
            </a:r>
            <a:r>
              <a:rPr b="1" lang="zh-CN" sz="3200" spc="-1" strike="noStrike">
                <a:solidFill>
                  <a:srgbClr val="99cc00"/>
                </a:solidFill>
                <a:latin typeface="黑体"/>
                <a:ea typeface="黑体"/>
              </a:rPr>
              <a:t>恋恋不舍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样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WordArt 5"/>
          <p:cNvSpPr txBox="1"/>
          <p:nvPr/>
        </p:nvSpPr>
        <p:spPr>
          <a:xfrm>
            <a:off x="324000" y="404640"/>
            <a:ext cx="1871640" cy="157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新魏"/>
              </a:rPr>
              <a:t>“</a:t>
            </a: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新魏"/>
              </a:rPr>
              <a:t>我”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</p:spTree>
  </p:cSld>
  <p:transition spd="med">
    <p:random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900" spc="-1" strike="noStrike">
                <a:solidFill>
                  <a:srgbClr val="000000"/>
                </a:solidFill>
                <a:latin typeface="Arial"/>
              </a:rPr>
              <a:t>由于对一本新书的渴望，使我再度一试窃读，这次的经历使我感受到了一位店员的关爱，使我备受感动。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页脚占位符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窃读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Rectangle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211" name="AutoShape 5"/>
          <p:cNvSpPr/>
          <p:nvPr/>
        </p:nvSpPr>
        <p:spPr>
          <a:xfrm>
            <a:off x="7848720" y="6510240"/>
            <a:ext cx="304560" cy="347760"/>
          </a:xfrm>
          <a:custGeom>
            <a:avLst/>
            <a:gdLst>
              <a:gd name="textAreaLeft" fmla="*/ 0 w 304560"/>
              <a:gd name="textAreaRight" fmla="*/ 86040 w 304560"/>
              <a:gd name="textAreaTop" fmla="*/ 133920 h 347760"/>
              <a:gd name="textAreaBottom" fmla="*/ 348120 h 34776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6" descr="20051010192951263"/>
          <p:cNvPicPr/>
          <p:nvPr/>
        </p:nvPicPr>
        <p:blipFill>
          <a:blip r:embed="rId3"/>
          <a:stretch/>
        </p:blipFill>
        <p:spPr>
          <a:xfrm>
            <a:off x="3657600" y="3429000"/>
            <a:ext cx="5238720" cy="380988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900" spc="-1" strike="noStrike">
                <a:solidFill>
                  <a:srgbClr val="000000"/>
                </a:solidFill>
                <a:latin typeface="Arial"/>
              </a:rPr>
              <a:t>我在读书中成长，也感受到人与人之间的关爱。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页脚占位符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窃读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Rectangle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216" name="AutoShape 5"/>
          <p:cNvSpPr/>
          <p:nvPr/>
        </p:nvSpPr>
        <p:spPr>
          <a:xfrm>
            <a:off x="7848720" y="6510240"/>
            <a:ext cx="304560" cy="347760"/>
          </a:xfrm>
          <a:custGeom>
            <a:avLst/>
            <a:gdLst>
              <a:gd name="textAreaLeft" fmla="*/ 0 w 304560"/>
              <a:gd name="textAreaRight" fmla="*/ 86040 w 304560"/>
              <a:gd name="textAreaTop" fmla="*/ 133920 h 347760"/>
              <a:gd name="textAreaBottom" fmla="*/ 348120 h 34776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6" descr="20051010192951263"/>
          <p:cNvPicPr/>
          <p:nvPr/>
        </p:nvPicPr>
        <p:blipFill>
          <a:blip r:embed="rId3"/>
          <a:stretch/>
        </p:blipFill>
        <p:spPr>
          <a:xfrm>
            <a:off x="3657600" y="3429000"/>
            <a:ext cx="5238720" cy="38098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900" spc="-1" strike="noStrike">
                <a:solidFill>
                  <a:srgbClr val="000000"/>
                </a:solidFill>
                <a:latin typeface="Arial"/>
              </a:rPr>
              <a:t>读书十分重要，是我们不可或缺的精神食粮，我们从小就浸浴在书香中成长。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900" spc="-1" strike="noStrike">
                <a:solidFill>
                  <a:srgbClr val="000000"/>
                </a:solidFill>
                <a:latin typeface="Arial"/>
              </a:rPr>
              <a:t>人世间冷暖百态，但是关爱处处存在。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页脚占位符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窃读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Rectangle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" descr="20051010192951263"/>
          <p:cNvPicPr/>
          <p:nvPr/>
        </p:nvPicPr>
        <p:blipFill>
          <a:blip r:embed="rId3"/>
          <a:stretch/>
        </p:blipFill>
        <p:spPr>
          <a:xfrm>
            <a:off x="3657600" y="3429000"/>
            <a:ext cx="5238720" cy="38098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250920" y="2349000"/>
            <a:ext cx="8540640" cy="41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吃饭长大的”指的是身体成长物质的需求，“读书长大”则是指精神的成长食粮，粮食哺育的是身体，书籍哺育的是灵魂，一个身体与智慧不断增长的人，才是健康成长的人。作者真正的领悟到这句话的意义，于是作者“怕并快乐着”，乐大于苦，喜大于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页脚占位符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窃读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Rectangle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4"/>
          <p:cNvSpPr/>
          <p:nvPr/>
        </p:nvSpPr>
        <p:spPr>
          <a:xfrm>
            <a:off x="324000" y="177336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Arial"/>
                <a:ea typeface="黑体"/>
              </a:rPr>
              <a:t>体会含义深刻的句子“记住，你们是吃饭长大的，也是读书长大的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页脚占位符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窃读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2" descr="可爱的边框（29）"/>
          <p:cNvPicPr/>
          <p:nvPr/>
        </p:nvPicPr>
        <p:blipFill>
          <a:blip r:embed="rId2"/>
          <a:srcRect l="3335" t="5374" r="4998" b="645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3"/>
          <p:cNvSpPr/>
          <p:nvPr/>
        </p:nvSpPr>
        <p:spPr>
          <a:xfrm>
            <a:off x="914400" y="838080"/>
            <a:ext cx="73915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99cc00"/>
                </a:solidFill>
                <a:latin typeface="Arial"/>
              </a:rPr>
              <a:t>.</a:t>
            </a:r>
            <a:r>
              <a:rPr b="0" lang="zh-CN" sz="2800" spc="-1" strike="noStrike">
                <a:solidFill>
                  <a:srgbClr val="99cc00"/>
                </a:solidFill>
                <a:latin typeface="Arial"/>
              </a:rPr>
              <a:t>联系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课文和生活实际，说说对“你们是吃饭长大的，也是读书长大的！”</a:t>
            </a:r>
            <a:r>
              <a:rPr b="0" lang="zh-CN" sz="2800" spc="-1" strike="noStrike">
                <a:solidFill>
                  <a:srgbClr val="99cc00"/>
                </a:solidFill>
                <a:latin typeface="Arial"/>
              </a:rPr>
              <a:t>这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句话的</a:t>
            </a:r>
            <a:r>
              <a:rPr b="0" lang="zh-CN" sz="2800" spc="-1" strike="noStrike">
                <a:solidFill>
                  <a:srgbClr val="99cc00"/>
                </a:solidFill>
                <a:latin typeface="Arial"/>
              </a:rPr>
              <a:t>理解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914400" y="1981080"/>
            <a:ext cx="7620120" cy="38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吃饭长大的”指的是身体成长物质的需求，“读书长大”则是指精神的成长食粮，粮食哺育的是身体，书籍哺育的是灵魂，一个身体与智慧不断增长的人，才是健康成长的人。作者真正的领悟到这句话的意义，于是作者“怕并快乐着”，乐大于苦，喜大于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页脚占位符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窃读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2" descr="可爱的边框（29）"/>
          <p:cNvPicPr/>
          <p:nvPr/>
        </p:nvPicPr>
        <p:blipFill>
          <a:blip r:embed="rId2"/>
          <a:srcRect l="3335" t="5374" r="4998" b="645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3"/>
          <p:cNvSpPr/>
          <p:nvPr/>
        </p:nvSpPr>
        <p:spPr>
          <a:xfrm>
            <a:off x="914400" y="838080"/>
            <a:ext cx="73915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1042920" y="1052640"/>
            <a:ext cx="7620120" cy="38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cc00"/>
                </a:solidFill>
                <a:latin typeface="Arial"/>
              </a:rPr>
              <a:t>综合性学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搜集名人读书的故事或读书名言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访问周围爱读书的人，请他们谈谈读书的体会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去图书馆或书店看看，了解图书都有哪些种类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给自己的图书分分类，做个书目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找一本喜欢的书阅读，读书时摘抄或填写阅读记录卡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开展其他相关的内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Rectangle 4" descr=""/>
          <p:cNvPicPr/>
          <p:nvPr/>
        </p:nvPicPr>
        <p:blipFill>
          <a:blip r:embed="rId2"/>
          <a:stretch/>
        </p:blipFill>
        <p:spPr>
          <a:xfrm>
            <a:off x="622440" y="781200"/>
            <a:ext cx="8802720" cy="270036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371600" y="400500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读书好，好读书，读好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                     </a:t>
            </a:r>
            <a:r>
              <a:rPr b="0" lang="zh-CN" sz="3200" spc="-1" strike="noStrike">
                <a:solidFill>
                  <a:srgbClr val="009999"/>
                </a:solidFill>
                <a:latin typeface="Arial"/>
                <a:ea typeface="隶书"/>
              </a:rPr>
              <a:t>——</a:t>
            </a:r>
            <a:r>
              <a:rPr b="0" lang="zh-CN" sz="3200" spc="-1" strike="noStrike">
                <a:solidFill>
                  <a:srgbClr val="009999"/>
                </a:solidFill>
                <a:latin typeface="隶书"/>
                <a:ea typeface="隶书"/>
              </a:rPr>
              <a:t>冰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3" dur="2000" fill="hold"/>
                                        <p:tgtEl>
                                          <p:spTgt spid="23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页脚占位符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窃读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1218960"/>
            <a:ext cx="6400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3700" spc="-1" strike="noStrike">
                <a:solidFill>
                  <a:srgbClr val="000000"/>
                </a:solidFill>
                <a:latin typeface="黑体"/>
              </a:rPr>
              <a:t>默读课文，为课文分段，圈划生字新词。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黑体"/>
              </a:rPr>
              <a:t>思考：窃读的滋味是怎样的？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700" spc="-1" strike="noStrike">
                <a:solidFill>
                  <a:srgbClr val="000000"/>
                </a:solidFill>
                <a:latin typeface="黑体"/>
              </a:rPr>
              <a:t>我</a:t>
            </a:r>
            <a:r>
              <a:rPr b="1" lang="zh-CN" sz="37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700" spc="-1" strike="noStrike">
                <a:solidFill>
                  <a:srgbClr val="000000"/>
                </a:solidFill>
                <a:latin typeface="黑体"/>
              </a:rPr>
              <a:t>为什么要窃读呢？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黑体"/>
              </a:rPr>
              <a:t>划出你印象最深刻的写</a:t>
            </a:r>
            <a:r>
              <a:rPr b="1" lang="zh-CN" sz="3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700" spc="-1" strike="noStrike">
                <a:solidFill>
                  <a:srgbClr val="000000"/>
                </a:solidFill>
                <a:latin typeface="黑体"/>
              </a:rPr>
              <a:t>我</a:t>
            </a:r>
            <a:r>
              <a:rPr b="1" lang="zh-CN" sz="3700" spc="-1" strike="noStrike">
                <a:solidFill>
                  <a:srgbClr val="000000"/>
                </a:solidFill>
                <a:latin typeface="Arial"/>
              </a:rPr>
              <a:t>”“</a:t>
            </a:r>
            <a:r>
              <a:rPr b="1" lang="zh-CN" sz="3700" spc="-1" strike="noStrike">
                <a:solidFill>
                  <a:srgbClr val="000000"/>
                </a:solidFill>
                <a:latin typeface="黑体"/>
              </a:rPr>
              <a:t>窃读</a:t>
            </a:r>
            <a:r>
              <a:rPr b="1" lang="zh-CN" sz="37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700" spc="-1" strike="noStrike">
                <a:solidFill>
                  <a:srgbClr val="000000"/>
                </a:solidFill>
                <a:latin typeface="黑体"/>
              </a:rPr>
              <a:t>的句子或段落。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黑体"/>
              </a:rPr>
              <a:t>了解</a:t>
            </a:r>
            <a:r>
              <a:rPr b="1" lang="zh-CN" sz="3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700" spc="-1" strike="noStrike">
                <a:solidFill>
                  <a:srgbClr val="000000"/>
                </a:solidFill>
                <a:latin typeface="黑体"/>
              </a:rPr>
              <a:t>窃</a:t>
            </a:r>
            <a:r>
              <a:rPr b="1" lang="zh-CN" sz="37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700" spc="-1" strike="noStrike">
                <a:solidFill>
                  <a:srgbClr val="000000"/>
                </a:solidFill>
                <a:latin typeface="黑体"/>
              </a:rPr>
              <a:t>、 </a:t>
            </a:r>
            <a:r>
              <a:rPr b="1" lang="zh-CN" sz="3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700" spc="-1" strike="noStrike">
                <a:solidFill>
                  <a:srgbClr val="000000"/>
                </a:solidFill>
                <a:latin typeface="黑体"/>
              </a:rPr>
              <a:t>窃读</a:t>
            </a:r>
            <a:r>
              <a:rPr b="1" lang="zh-CN" sz="37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700" spc="-1" strike="noStrike">
                <a:solidFill>
                  <a:srgbClr val="000000"/>
                </a:solidFill>
                <a:latin typeface="黑体"/>
              </a:rPr>
              <a:t>的含义。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80520" y="1599840"/>
            <a:ext cx="4194360" cy="45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</a:rPr>
              <a:t>汗涔涔：形容含不断地流下。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</a:rPr>
              <a:t>四平八稳：形容说话做事写文章稳当，文中指书放得很稳。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</a:rPr>
              <a:t>众目睽睽：指众人都在注视监督。睽睽，张目注视的样子。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</a:rPr>
              <a:t>慕名：仰慕别人的名气。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48320" y="1523520"/>
            <a:ext cx="4194000" cy="45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</a:rPr>
              <a:t>像煞有介事：好像真有这回事似的。多指大模大样，好像有什么了不起。也说煞有介事。文中指装模作样。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</a:rPr>
              <a:t>枉然：得不到任何收获白费力气。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</a:rPr>
              <a:t>饥肠辘辘：形容非常饥饿。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页脚占位符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窃读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Rectangle 9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301680" y="1752480"/>
            <a:ext cx="854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）通过查字典，找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字的多个义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）找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字在本文中的含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在本文中应理解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偷偷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暗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之意，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窃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）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窃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一般含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）放在文中考察其含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假装逛书店，其实是要读书店里的书而不买，趁店员不注意时暗中偷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页脚占位符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窃读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Rectangle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1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4" dur="2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Rectangle 2" descr=""/>
          <p:cNvPicPr/>
          <p:nvPr/>
        </p:nvPicPr>
        <p:blipFill>
          <a:blip r:embed="rId2"/>
          <a:stretch/>
        </p:blipFill>
        <p:spPr>
          <a:xfrm>
            <a:off x="-165240" y="285840"/>
            <a:ext cx="9017280" cy="1476360"/>
          </a:xfrm>
          <a:prstGeom prst="rect">
            <a:avLst/>
          </a:prstGeom>
          <a:ln w="0">
            <a:noFill/>
          </a:ln>
        </p:spPr>
      </p:pic>
      <p:grpSp>
        <p:nvGrpSpPr>
          <p:cNvPr id="66" name="Organization Chart 3"/>
          <p:cNvGrpSpPr/>
          <p:nvPr/>
        </p:nvGrpSpPr>
        <p:grpSpPr>
          <a:xfrm>
            <a:off x="301680" y="1905120"/>
            <a:ext cx="8540280" cy="4192560"/>
            <a:chOff x="301680" y="1905120"/>
            <a:chExt cx="8540280" cy="4192560"/>
          </a:xfrm>
        </p:grpSpPr>
        <p:cxnSp>
          <p:nvCxnSpPr>
            <p:cNvPr id="67" name="_s78853"/>
            <p:cNvCxnSpPr>
              <a:stCxn id="68" idx="0"/>
              <a:endCxn id="69" idx="2"/>
            </p:cNvCxnSpPr>
            <p:nvPr/>
          </p:nvCxnSpPr>
          <p:spPr>
            <a:xfrm flipV="1" rot="16200000">
              <a:off x="5886000" y="2266200"/>
              <a:ext cx="839160" cy="346932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" name="_s78854"/>
            <p:cNvCxnSpPr>
              <a:stCxn id="71" idx="0"/>
              <a:endCxn id="69" idx="2"/>
            </p:cNvCxnSpPr>
            <p:nvPr/>
          </p:nvCxnSpPr>
          <p:spPr>
            <a:xfrm flipV="1" rot="16200000">
              <a:off x="5018760" y="3133440"/>
              <a:ext cx="839160" cy="173484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" name="_s78855"/>
            <p:cNvCxnSpPr>
              <a:stCxn id="73" idx="0"/>
              <a:endCxn id="69" idx="2"/>
            </p:cNvCxnSpPr>
            <p:nvPr/>
          </p:nvCxnSpPr>
          <p:spPr>
            <a:xfrm flipH="1" flipV="1" rot="5400000">
              <a:off x="2417760" y="2266200"/>
              <a:ext cx="839160" cy="346932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4" name="_s78856"/>
            <p:cNvCxnSpPr>
              <a:stCxn id="75" idx="0"/>
              <a:endCxn id="69" idx="2"/>
            </p:cNvCxnSpPr>
            <p:nvPr/>
          </p:nvCxnSpPr>
          <p:spPr>
            <a:xfrm flipV="1">
              <a:off x="4571640" y="3581280"/>
              <a:ext cx="2160" cy="839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6" name="_s78857"/>
            <p:cNvCxnSpPr>
              <a:stCxn id="77" idx="0"/>
              <a:endCxn id="69" idx="2"/>
            </p:cNvCxnSpPr>
            <p:nvPr/>
          </p:nvCxnSpPr>
          <p:spPr>
            <a:xfrm flipH="1" flipV="1" rot="5400000">
              <a:off x="3285720" y="3134160"/>
              <a:ext cx="839160" cy="173340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9" name="_s78858"/>
            <p:cNvSpPr/>
            <p:nvPr/>
          </p:nvSpPr>
          <p:spPr>
            <a:xfrm>
              <a:off x="3770280" y="1905120"/>
              <a:ext cx="1602720" cy="1676880"/>
            </a:xfrm>
            <a:custGeom>
              <a:avLst/>
              <a:gdLst>
                <a:gd name="textAreaLeft" fmla="*/ 78120 w 1602720"/>
                <a:gd name="textAreaRight" fmla="*/ 1524600 w 1602720"/>
                <a:gd name="textAreaTop" fmla="*/ 78120 h 1676880"/>
                <a:gd name="textAreaBottom" fmla="*/ 1598760 h 1676880"/>
              </a:gdLst>
              <a:ahLst/>
              <a:rect l="textAreaLeft" t="textAreaTop" r="textAreaRight" b="textAreaBottom"/>
              <a:pathLst>
                <a:path w="21600" h="22599">
                  <a:moveTo>
                    <a:pt x="3600" y="0"/>
                  </a:moveTo>
                  <a:arcTo wR="3600" hR="3600" stAng="16200000" swAng="-5400000"/>
                  <a:lnTo>
                    <a:pt x="0" y="18999"/>
                  </a:lnTo>
                  <a:arcTo wR="3600" hR="3600" stAng="10800000" swAng="-5400000"/>
                  <a:lnTo>
                    <a:pt x="18000" y="225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ffff">
                <a:alpha val="5000"/>
              </a:srgbClr>
            </a:solidFill>
            <a:ln w="12600">
              <a:solidFill>
                <a:srgbClr val="00000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窃读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78859"/>
            <p:cNvSpPr/>
            <p:nvPr/>
          </p:nvSpPr>
          <p:spPr>
            <a:xfrm>
              <a:off x="5504760" y="4420800"/>
              <a:ext cx="1602720" cy="1676880"/>
            </a:xfrm>
            <a:custGeom>
              <a:avLst/>
              <a:gdLst>
                <a:gd name="textAreaLeft" fmla="*/ 78120 w 1602720"/>
                <a:gd name="textAreaRight" fmla="*/ 1524600 w 1602720"/>
                <a:gd name="textAreaTop" fmla="*/ 78120 h 1676880"/>
                <a:gd name="textAreaBottom" fmla="*/ 1598760 h 1676880"/>
              </a:gdLst>
              <a:ahLst/>
              <a:rect l="textAreaLeft" t="textAreaTop" r="textAreaRight" b="textAreaBottom"/>
              <a:pathLst>
                <a:path w="21600" h="22599">
                  <a:moveTo>
                    <a:pt x="3600" y="0"/>
                  </a:moveTo>
                  <a:arcTo wR="3600" hR="3600" stAng="16200000" swAng="-5400000"/>
                  <a:lnTo>
                    <a:pt x="0" y="18999"/>
                  </a:lnTo>
                  <a:arcTo wR="3600" hR="3600" stAng="10800000" swAng="-5400000"/>
                  <a:lnTo>
                    <a:pt x="18000" y="225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16-24</a:t>
              </a:r>
              <a:r>
                <a:rPr b="1" lang="zh-CN" sz="1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由于对知识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渴望到其他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书店窃读，得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店员的同情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78860"/>
            <p:cNvSpPr/>
            <p:nvPr/>
          </p:nvSpPr>
          <p:spPr>
            <a:xfrm>
              <a:off x="2035800" y="4420800"/>
              <a:ext cx="1602720" cy="1676880"/>
            </a:xfrm>
            <a:custGeom>
              <a:avLst/>
              <a:gdLst>
                <a:gd name="textAreaLeft" fmla="*/ 78120 w 1602720"/>
                <a:gd name="textAreaRight" fmla="*/ 1524600 w 1602720"/>
                <a:gd name="textAreaTop" fmla="*/ 78120 h 1676880"/>
                <a:gd name="textAreaBottom" fmla="*/ 1598760 h 1676880"/>
              </a:gdLst>
              <a:ahLst/>
              <a:rect l="textAreaLeft" t="textAreaTop" r="textAreaRight" b="textAreaBottom"/>
              <a:pathLst>
                <a:path w="21600" h="22599">
                  <a:moveTo>
                    <a:pt x="3600" y="0"/>
                  </a:moveTo>
                  <a:arcTo wR="3600" hR="3600" stAng="16200000" swAng="-5400000"/>
                  <a:lnTo>
                    <a:pt x="0" y="18999"/>
                  </a:lnTo>
                  <a:arcTo wR="3600" hR="3600" stAng="10800000" swAng="-5400000"/>
                  <a:lnTo>
                    <a:pt x="18000" y="225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9-14</a:t>
              </a:r>
              <a:r>
                <a:rPr b="1" lang="zh-CN" sz="24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窃读的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由和经过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78861"/>
            <p:cNvSpPr/>
            <p:nvPr/>
          </p:nvSpPr>
          <p:spPr>
            <a:xfrm>
              <a:off x="3770280" y="4420800"/>
              <a:ext cx="1602720" cy="1676880"/>
            </a:xfrm>
            <a:custGeom>
              <a:avLst/>
              <a:gdLst>
                <a:gd name="textAreaLeft" fmla="*/ 78120 w 1602720"/>
                <a:gd name="textAreaRight" fmla="*/ 1524600 w 1602720"/>
                <a:gd name="textAreaTop" fmla="*/ 78120 h 1676880"/>
                <a:gd name="textAreaBottom" fmla="*/ 1598760 h 1676880"/>
              </a:gdLst>
              <a:ahLst/>
              <a:rect l="textAreaLeft" t="textAreaTop" r="textAreaRight" b="textAreaBottom"/>
              <a:pathLst>
                <a:path w="21600" h="22599">
                  <a:moveTo>
                    <a:pt x="3600" y="0"/>
                  </a:moveTo>
                  <a:arcTo wR="3600" hR="3600" stAng="16200000" swAng="-5400000"/>
                  <a:lnTo>
                    <a:pt x="0" y="18999"/>
                  </a:lnTo>
                  <a:arcTo wR="3600" hR="3600" stAng="10800000" swAng="-5400000"/>
                  <a:lnTo>
                    <a:pt x="18000" y="225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15</a:t>
              </a:r>
              <a:r>
                <a:rPr b="1" lang="zh-CN" sz="24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受屈辱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十分悲愤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78862"/>
            <p:cNvSpPr/>
            <p:nvPr/>
          </p:nvSpPr>
          <p:spPr>
            <a:xfrm>
              <a:off x="301680" y="4420800"/>
              <a:ext cx="1602720" cy="1676880"/>
            </a:xfrm>
            <a:custGeom>
              <a:avLst/>
              <a:gdLst>
                <a:gd name="textAreaLeft" fmla="*/ 78120 w 1602720"/>
                <a:gd name="textAreaRight" fmla="*/ 1524600 w 1602720"/>
                <a:gd name="textAreaTop" fmla="*/ 78120 h 1676880"/>
                <a:gd name="textAreaBottom" fmla="*/ 1598760 h 1676880"/>
              </a:gdLst>
              <a:ahLst/>
              <a:rect l="textAreaLeft" t="textAreaTop" r="textAreaRight" b="textAreaBottom"/>
              <a:pathLst>
                <a:path w="21600" h="22599">
                  <a:moveTo>
                    <a:pt x="3600" y="0"/>
                  </a:moveTo>
                  <a:arcTo wR="3600" hR="3600" stAng="16200000" swAng="-5400000"/>
                  <a:lnTo>
                    <a:pt x="0" y="18999"/>
                  </a:lnTo>
                  <a:arcTo wR="3600" hR="3600" stAng="10800000" swAng="-5400000"/>
                  <a:lnTo>
                    <a:pt x="18000" y="225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1-8</a:t>
              </a:r>
              <a:r>
                <a:rPr b="1" lang="zh-CN" sz="24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在一家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店窃读，被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老板挖苦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78863"/>
            <p:cNvSpPr/>
            <p:nvPr/>
          </p:nvSpPr>
          <p:spPr>
            <a:xfrm>
              <a:off x="7239240" y="4420800"/>
              <a:ext cx="1602720" cy="1676880"/>
            </a:xfrm>
            <a:custGeom>
              <a:avLst/>
              <a:gdLst>
                <a:gd name="textAreaLeft" fmla="*/ 78120 w 1602720"/>
                <a:gd name="textAreaRight" fmla="*/ 1524600 w 1602720"/>
                <a:gd name="textAreaTop" fmla="*/ 78120 h 1676880"/>
                <a:gd name="textAreaBottom" fmla="*/ 1598760 h 1676880"/>
              </a:gdLst>
              <a:ahLst/>
              <a:rect l="textAreaLeft" t="textAreaTop" r="textAreaRight" b="textAreaBottom"/>
              <a:pathLst>
                <a:path w="21600" h="22599">
                  <a:moveTo>
                    <a:pt x="3600" y="0"/>
                  </a:moveTo>
                  <a:arcTo wR="3600" hR="3600" stAng="16200000" swAng="-5400000"/>
                  <a:lnTo>
                    <a:pt x="0" y="18999"/>
                  </a:lnTo>
                  <a:arcTo wR="3600" hR="3600" stAng="10800000" swAng="-5400000"/>
                  <a:lnTo>
                    <a:pt x="18000" y="225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25-28</a:t>
              </a:r>
              <a:r>
                <a:rPr b="1" lang="zh-CN" sz="24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点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页脚占位符 4"/>
          <p:cNvSpPr/>
          <p:nvPr/>
        </p:nvSpPr>
        <p:spPr>
          <a:xfrm>
            <a:off x="320040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窃读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6"/>
          <p:cNvSpPr/>
          <p:nvPr/>
        </p:nvSpPr>
        <p:spPr>
          <a:xfrm>
            <a:off x="8305920" y="6248520"/>
            <a:ext cx="609480" cy="609480"/>
          </a:xfrm>
          <a:prstGeom prst="verticalScroll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页脚占位符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窃读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1695600" y="762120"/>
            <a:ext cx="5819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　　快速阅读课文，想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窃读的滋味是怎样的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533520" y="2895480"/>
            <a:ext cx="8381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　　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我很快乐，也很惧怕——这种窃读的滋味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20051010192951263"/>
          <p:cNvPicPr/>
          <p:nvPr/>
        </p:nvPicPr>
        <p:blipFill>
          <a:blip r:embed="rId2"/>
          <a:stretch/>
        </p:blipFill>
        <p:spPr>
          <a:xfrm>
            <a:off x="3657600" y="3429000"/>
            <a:ext cx="52387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页脚占位符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窃读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框（86）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3"/>
          <p:cNvSpPr/>
          <p:nvPr/>
        </p:nvSpPr>
        <p:spPr>
          <a:xfrm>
            <a:off x="900000" y="762120"/>
            <a:ext cx="69850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转过街角，</a:t>
            </a:r>
            <a:r>
              <a:rPr b="0" lang="zh-CN" sz="4000" spc="-1" strike="noStrike">
                <a:solidFill>
                  <a:srgbClr val="99cc00"/>
                </a:solidFill>
                <a:latin typeface="宋体"/>
              </a:rPr>
              <a:t>看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见饭店的招牌，</a:t>
            </a:r>
            <a:r>
              <a:rPr b="0" lang="zh-CN" sz="4000" spc="-1" strike="noStrike">
                <a:solidFill>
                  <a:srgbClr val="99cc00"/>
                </a:solidFill>
                <a:latin typeface="宋体"/>
              </a:rPr>
              <a:t>闻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见炒菜香味，</a:t>
            </a:r>
            <a:r>
              <a:rPr b="0" lang="zh-CN" sz="4000" spc="-1" strike="noStrike">
                <a:solidFill>
                  <a:srgbClr val="99cc00"/>
                </a:solidFill>
                <a:latin typeface="宋体"/>
              </a:rPr>
              <a:t>听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见锅勺敲打的声音，我放慢了脚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1905120" y="2971800"/>
            <a:ext cx="63244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突出了</a:t>
            </a:r>
            <a:r>
              <a:rPr b="0" lang="zh-CN" sz="4000" spc="-1" strike="noStrike">
                <a:solidFill>
                  <a:srgbClr val="99cc00"/>
                </a:solidFill>
                <a:latin typeface="Arial"/>
              </a:rPr>
              <a:t>看、闻、听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这三个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1066680" y="3962520"/>
            <a:ext cx="69850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文章第一小节为什么不直接写出主要写什么，而是用看、闻、听呢？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> </dc:description>
  <dc:language>en-US</dc:language>
  <cp:lastModifiedBy>USER</cp:lastModifiedBy>
  <dcterms:modified xsi:type="dcterms:W3CDTF">2015-08-27T23:00:22Z</dcterms:modified>
  <cp:revision>0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